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66DEC8-5FE1-4F8E-8CE0-10FAF9FC6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786D32-53D2-4E51-971A-95BB9DC4B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30120" y="542880"/>
            <a:ext cx="6351840" cy="4764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51000" y="5553000"/>
            <a:ext cx="63086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4C7D-17EB-44FA-9D40-951E6D1A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A626-0F4A-49FB-9340-D8F034AB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A381-77BC-4055-A57D-97972F31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0C81-DBD1-49AE-94A8-3C45F0FD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3475D-FE8D-4764-B766-8C0737852A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92610-43A3-4CAF-8317-1EB99F3178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E5821-D2F8-422B-8A35-382A26ADF2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53F01-6B16-4C43-9A58-10155816C1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D067E-5A31-4C27-B8A1-D51C0B0485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B37B9-F36F-4591-AB29-ECF6D09A94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2B4F5-8159-4C8B-8815-3C84B2B356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6BC0-29D4-4B87-A100-2A65B045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88A24-8C23-4FB8-A31B-F9A4402770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431CF-5FBD-4602-8CA8-54D16356B0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43657-6AAA-42B1-9937-82691E9D0A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D8A38-CC4C-4175-BC56-0C092BE65D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AA4BF-6C69-4C46-99FB-325C85A768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923EB-9E01-4BEE-ABA8-BC1E4A13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5C9F4-C33E-411B-B119-700FC516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58A45-0BF9-4168-9E3E-212261DB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70358-6F34-4DAA-AFED-726683E4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69EDE-D96F-4757-BA30-8F053570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6114-F3CF-4F58-800C-E2DCE4CB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BED3B-C02B-4564-AC25-42BBF36B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41EDA-5BE5-40A7-9CFB-BDED4A4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81F79-ECBB-43C0-9AE9-95E361F0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70574-C128-4C38-AAD5-0D8806E3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5A2AA-5206-414D-BE82-98B1F043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5B860-4EA1-4E5B-9D4F-985AF272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6DD49-4E3A-456E-A920-DE6F1DBD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E90B-7241-4AD8-BFB0-39F1211F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082DE-C1C0-4FE6-9392-A027BC3E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8624-D8F0-4D8F-971B-7F2397D6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9D93-CF65-4C6E-98C2-E546E137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9C27-8CB3-43E1-8E19-73D60B73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A6DF-0C6F-4E40-B6FC-C924E4E8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5CB3-CC22-4048-9B73-3BDD32A18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9744-15D7-45F7-BCD4-F791AEDA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192C-C630-4410-B192-569F24D99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CAD99-DD2E-440F-8559-86B94DA569BD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378040" y="3122640"/>
            <a:ext cx="2670120" cy="2493360"/>
            <a:chOff x="5378040" y="312264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5378040" y="312264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638680" y="4365360"/>
              <a:ext cx="2409480" cy="1250640"/>
              <a:chOff x="5638680" y="436536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638680" y="436536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8280" y="444600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9DE3-C709-41AD-984D-56F85DB1A752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School Library Systems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Provide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leadership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hared resource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equitable acces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leveraged economic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connect students and teachers to resource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1297080" y="-111600"/>
            <a:ext cx="3925800" cy="2596680"/>
            <a:chOff x="-1297080" y="-111600"/>
            <a:chExt cx="3925800" cy="2596680"/>
          </a:xfrm>
        </p:grpSpPr>
        <p:sp>
          <p:nvSpPr>
            <p:cNvPr id="184" name=""/>
            <p:cNvSpPr/>
            <p:nvPr/>
          </p:nvSpPr>
          <p:spPr>
            <a:xfrm flipV="1">
              <a:off x="-1297080" y="830160"/>
              <a:ext cx="2511720" cy="165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-71280" y="-111600"/>
              <a:ext cx="2700000" cy="1945080"/>
              <a:chOff x="-71280" y="-111600"/>
              <a:chExt cx="2700000" cy="1945080"/>
            </a:xfrm>
          </p:grpSpPr>
          <p:sp>
            <p:nvSpPr>
              <p:cNvPr id="186" name=""/>
              <p:cNvSpPr/>
              <p:nvPr/>
            </p:nvSpPr>
            <p:spPr>
              <a:xfrm rot="20341800">
                <a:off x="51840" y="289440"/>
                <a:ext cx="245340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341800">
                <a:off x="182880" y="364680"/>
                <a:ext cx="21819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2438280" y="24382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280" y="2133720"/>
            <a:ext cx="95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Improve Library Resources and Services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CA71-04E5-48C7-8369-6B33E7AD68E8}" type="slidenum">
              <a:t>3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Improve Library System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Resources and Service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 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1297080" y="-111600"/>
            <a:ext cx="3925800" cy="2596680"/>
            <a:chOff x="-1297080" y="-111600"/>
            <a:chExt cx="3925800" cy="2596680"/>
          </a:xfrm>
        </p:grpSpPr>
        <p:sp>
          <p:nvSpPr>
            <p:cNvPr id="193" name=""/>
            <p:cNvSpPr/>
            <p:nvPr/>
          </p:nvSpPr>
          <p:spPr>
            <a:xfrm flipV="1">
              <a:off x="-1297080" y="830160"/>
              <a:ext cx="2511720" cy="165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-71280" y="-111600"/>
              <a:ext cx="2700000" cy="1945080"/>
              <a:chOff x="-71280" y="-111600"/>
              <a:chExt cx="2700000" cy="1945080"/>
            </a:xfrm>
          </p:grpSpPr>
          <p:sp>
            <p:nvSpPr>
              <p:cNvPr id="195" name=""/>
              <p:cNvSpPr/>
              <p:nvPr/>
            </p:nvSpPr>
            <p:spPr>
              <a:xfrm rot="20341800">
                <a:off x="51840" y="289440"/>
                <a:ext cx="245340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20341800">
                <a:off x="182880" y="364680"/>
                <a:ext cx="21819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2438280" y="24382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A2774-37DB-466C-B614-0866D21AA64D}" type="slidenum">
              <a:t>4</a:t>
            </a:fld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5-08T16:13:18Z</dcterms:modified>
  <cp:revision>110</cp:revision>
  <dc:subject/>
  <dc:title>Work Group Question here</dc:title>
</cp:coreProperties>
</file>